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CD8F-100F-4937-B8EE-81C6A1EB7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0D15-764C-4F6C-AD21-7DE3E9C6E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icky note feedback – 10 min – end of yesterday (40 minutes 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8025-F9FB-4975-8A5B-1CE583C9A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Stumbling Blocks – 10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E523-27D1-47AD-951A-6F580D6F8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2ED9-CA89-4A43-9E10-A959B74BF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ed to graphical misconce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60BA-6249-46C5-810A-28D382C80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2E1A-DEB1-48D2-8F16-F18709822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CC0D-E6F5-4A09-89DB-62D3218BB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8A46-25B5-4B78-9F64-9680CB973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E856-7AE6-4BF8-BF20-2DCE6E79E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7BE9-942A-43ED-A750-F0DF4EE1C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EF2E-C2DF-4C07-AD10-48ECB6C4F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1995-F544-4AAF-81F1-A4A1B7F09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guess on time for the BLM QR.2.1 – 30 minutes including discussion of big idea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B464-A142-4DE3-8E6C-410FC5B0C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691E-B075-437E-AD51-B6A4DDDE9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int out the assessment opportunities available during th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ox 1 min of compa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fter step 3 – ask if they notice anything (should notice that sets of 3 were always toge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Struggle: Fail to connect the graphical representation to other re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7FF9-AA59-470B-A6A6-FFE2DCD43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2DF9-251C-42A2-BFA3-D74D15C8E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10FB-CAC5-4F09-8B50-A1969AED5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107A-93D5-473E-B580-5C79F3E26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08D7-270D-495C-8A37-4AF25C5B1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5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ave the groups graph their tiles by placing a dot at the top of each tile and constructing axes around it.  They should connect the dots and write an expression for their 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ick walk-about to look at the different sequences – not all will start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research on above struggles and how introduction to quads through geometric models links quads to lin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sign each group a different relationship and repeat activity with a new piece of paper.  2 groups will do the sam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are out – changes to th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7616-6F64-4427-9748-771AD6284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pare the graph paper ahead of time with the scale on to aid with the determination of the effect of changing the relationship on the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AEAA-B36F-430F-86D1-8DDB13B71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it in a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C5EF-777D-4C71-8A9C-914D5CC83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4D96-27B1-466A-AE04-4A2DC2CB5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81DE-E985-4BAC-89AF-2E5588A0A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/Debr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part – 2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660A-A20A-465C-B529-A4DE446F1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9EE0-0408-4A77-88EC-03AA52848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2420-7912-4D2F-A933-01FA42647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earless speaking and lis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ffering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95DC-BDE2-4CEC-8A4F-BB0409575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44A6-9445-4FF1-A314-11D3E0A8B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2605-73A2-4692-A278-91F5C61B4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eometric does still work – we will see that later today – but graphical seems friend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335B-F0C1-4FDC-8D9F-7B46E478F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is animated – don’t click until the following is comple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group and people who finished their work can either: join another group to assist or cluster the expectations on the wall (i.e., same/similar expectations from across the cour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w click to reveal the statement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0 minutes in by the end of this slid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27E7-9396-46F4-A5FD-FFAF113A2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ABB7-E993-45AE-9312-2B49B4682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7A5-23CE-4FB4-9A93-5676A1AF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7C5-8475-4997-A654-E3C9054E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7BF-8733-4E5F-A954-72A5355D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032-C74C-4C96-90DB-E00389E8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8B2B-33C4-4344-BC19-3056AB08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ADB0-63CC-4A30-85BD-44874A27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0456-91CF-466A-85BF-417CA821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D2D4-9099-4CC0-B06C-65660C56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5350-9354-4197-AD46-1CB22C6C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702B-634B-40EC-878B-124E1591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8456-A2A8-42F5-BF78-3EE7289C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988-AD3E-4278-B568-3632782F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52D4-B1E2-4C62-8F3E-B85315F9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8C6C-1402-4A8C-B6A3-A21EBA3C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A2B9-458F-425B-B8A5-8C2829B9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A6F5-9DB5-4A73-8F13-DD0E147B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A702-AD19-483F-BAFE-5676407C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03F-3B56-4BA7-A6AB-CF24094E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3EE-4F8A-4C5D-87D4-CA1BD430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4C9-9FF3-45DB-A120-4D4421AA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9DF-70E5-4119-B85F-E3A5B94D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129-BD11-44ED-A9FC-68FAD2B7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8AE-DF10-4DAA-98BB-4AB9EEB6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B63-B199-42A0-B512-A2A0A6CB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27AE-FF50-4A5F-AE9C-91914852872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D1B0-F27D-4062-B3DC-16F696A4A38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Tripping Over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Stumbling Bl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Gallery Walk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sticky notes, provide feedback to your colleagues on their less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me guid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How would you assess student achievement of the lesson goal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ithin the stated goal, can you think of a variety of ways for students to reach and/or demonstrate their understand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common stu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is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umbling bloc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partial understanding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one per stick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he sticky note beside the appropriate curriculum cluster or big idea o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Revisit Lesson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nvene with your group for less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sticky notes to supplement your own consideration of the struggles students normally encounter, revise and/or add to you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st you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400" y="185688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a graph as a sketch through three or four points and never consider trends in famili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rely consider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comprehend the beauty/power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sinterpreting the point (b,c) as the vertex of the standard form y=ax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about when and how to use the vertex (h,k) with the vertex form, y=x(a-h)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k, which is demonstrated through students using the same process (algebraic to graphical) regardless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840" y="190476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different, potentially conflicting algebraic and graphical schemes in the cognitive structure (the phenomenon of compartment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simultaneous evoked images for one concept, which results in cognitive conflict (e.g., quadratic function evokes quadratic formula and parabo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of why a parabola horizontally or vertically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open and prepared to communicate with students in terms of confronting, discussing, and dealing with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void sequential presentation of the forms and instead simultaneously introduce vertex and standard form, emphasize the differences between them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necting the problem to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solve problems graphically before algebraically in order to build better connections between the graph and the equation (algebraic to graphic doesn’t result in the same depth of understa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well-designed set of tasks or examples that emphasize the distinction between the quadratic formula and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4009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ish the work from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student struggles (errors, misconceptions, and partial understandings, etc) that are grounded in experience and/o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ize that different representations of relationships highlight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Recognize that different representations of relationships highlight different characteristics or behaviours and can serve different purpo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one is going to receive a graph of a quadratic relation with its equation.  The equations are given in 3 different forms (examples shown below) and we will be looking to see what information each form gives, if any, about a parabola.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3(x + 2)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– 7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(x + 4)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– 2x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+ 4x + 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x 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you believe that all of the above relations would give parabolic graphs?  Why or why no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7176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lete the information requested below the graph given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zero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compare your graphs (similarities? differenc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new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compare your graphs (similarities? differenc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only the people who have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am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chart paper record the important info about your 3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g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27436" t="40117" r="26003" b="19771"/>
          <a:stretch/>
        </p:blipFill>
        <p:spPr>
          <a:xfrm>
            <a:off x="1857240" y="3286080"/>
            <a:ext cx="5970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164268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Consolid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class decide how the chart papers should be arranged to help make patter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nformation about the graph of a parabola does each form of the equation g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-up exit card: which form do you think is most useful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8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25"/>
                            </p:stCondLst>
                            <p:childTnLst>
                              <p:par>
                                <p:cTn id="3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3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75"/>
                            </p:stCondLst>
                            <p:childTnLst>
                              <p:par>
                                <p:cTn id="3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34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900"/>
                            </p:stCondLst>
                            <p:childTnLst>
                              <p:par>
                                <p:cTn id="3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650"/>
                            </p:stCondLst>
                            <p:childTnLst>
                              <p:par>
                                <p:cTn id="4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50"/>
                            </p:stCondLst>
                            <p:childTnLst>
                              <p:par>
                                <p:cTn id="4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200"/>
                            </p:stCondLst>
                            <p:childTnLst>
                              <p:par>
                                <p:cTn id="5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700"/>
                            </p:stCondLst>
                            <p:childTnLst>
                              <p:par>
                                <p:cTn id="5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200"/>
                            </p:stCondLst>
                            <p:childTnLst>
                              <p:par>
                                <p:cTn id="6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6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700"/>
                            </p:stCondLst>
                            <p:childTnLst>
                              <p:par>
                                <p:cTn id="69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70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325"/>
                            </p:stCondLst>
                            <p:childTnLst>
                              <p:par>
                                <p:cTn id="7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7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775"/>
                            </p:stCondLst>
                            <p:childTnLst>
                              <p:par>
                                <p:cTn id="7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7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3050"/>
                            </p:stCondLst>
                            <p:childTnLst>
                              <p:par>
                                <p:cTn id="78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300"/>
                            </p:stCondLst>
                            <p:childTnLst>
                              <p:par>
                                <p:cTn id="8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700"/>
                            </p:stCondLst>
                            <p:childTnLst>
                              <p:par>
                                <p:cTn id="9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750"/>
                            </p:stCondLst>
                            <p:childTnLst>
                              <p:par>
                                <p:cTn id="96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0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8250"/>
                            </p:stCondLst>
                            <p:childTnLst>
                              <p:par>
                                <p:cTn id="10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the connections you see between the identified struggle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curriculum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suggested instructional strateg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lesson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colour tiles or cube-a-links, construct a unique square at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der these at your table by side length.  Construct additional square(s) if necessary to generate at least three squares with sequential side leng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ck the tiles vertically on the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Relationship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42680"/>
            <a:ext cx="84009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ctangle with a width equal to twice th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square that always has an additional 1 unit square attac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ctangle with a width equal to three times th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ctangle with width that is 2 units longer than th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ctangle with a width that is 3 units shorter than th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square that always has 1 square unit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ctangle with a width equal to half th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8358120" y="2428920"/>
            <a:ext cx="309600" cy="237960"/>
            <a:chOff x="8358120" y="2428920"/>
            <a:chExt cx="309600" cy="237960"/>
          </a:xfrm>
        </p:grpSpPr>
        <p:sp>
          <p:nvSpPr>
            <p:cNvPr id="153" name="Rectangle 3"/>
            <p:cNvSpPr/>
            <p:nvPr/>
          </p:nvSpPr>
          <p:spPr>
            <a:xfrm>
              <a:off x="8358120" y="2428920"/>
              <a:ext cx="22356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"/>
            <p:cNvSpPr/>
            <p:nvPr/>
          </p:nvSpPr>
          <p:spPr>
            <a:xfrm>
              <a:off x="8583480" y="2428920"/>
              <a:ext cx="84240" cy="8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480" y="1904760"/>
            <a:ext cx="8643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relationship do you see between the width and the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might students connect this learning to their understanding of linear rel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connections can you make between the geometric model and the graphical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might this help students understand transform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other insights did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Notes From the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way that the big ideas informed my thinking today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y are difficult to integrate into the current thinking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y allow for more meaningful connections to be drawn between concep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y overlap so that expectations could go under more than on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ruggling with how to express them in student friendly languag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2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25"/>
                            </p:stCondLst>
                            <p:childTnLst>
                              <p:par>
                                <p:cTn id="13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2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75"/>
                            </p:stCondLst>
                            <p:childTnLst>
                              <p:par>
                                <p:cTn id="134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900"/>
                            </p:stCondLst>
                            <p:childTnLst>
                              <p:par>
                                <p:cTn id="13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650"/>
                            </p:stCondLst>
                            <p:childTnLst>
                              <p:par>
                                <p:cTn id="14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50"/>
                            </p:stCondLst>
                            <p:childTnLst>
                              <p:par>
                                <p:cTn id="14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200"/>
                            </p:stCondLst>
                            <p:childTnLst>
                              <p:par>
                                <p:cTn id="15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700"/>
                            </p:stCondLst>
                            <p:childTnLst>
                              <p:par>
                                <p:cTn id="16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1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2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200"/>
                            </p:stCondLst>
                            <p:childTnLst>
                              <p:par>
                                <p:cTn id="16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700"/>
                            </p:stCondLst>
                            <p:childTnLst>
                              <p:par>
                                <p:cTn id="170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7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325"/>
                            </p:stCondLst>
                            <p:childTnLst>
                              <p:par>
                                <p:cTn id="17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7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775"/>
                            </p:stCondLst>
                            <p:childTnLst>
                              <p:par>
                                <p:cTn id="176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7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050"/>
                            </p:stCondLst>
                            <p:childTnLst>
                              <p:par>
                                <p:cTn id="179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4300"/>
                            </p:stCondLst>
                            <p:childTnLst>
                              <p:par>
                                <p:cTn id="18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700"/>
                            </p:stCondLst>
                            <p:childTnLst>
                              <p:par>
                                <p:cTn id="19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750"/>
                            </p:stCondLst>
                            <p:childTnLst>
                              <p:par>
                                <p:cTn id="197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9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7750"/>
                            </p:stCondLst>
                            <p:childTnLst>
                              <p:par>
                                <p:cTn id="20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3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4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5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8250"/>
                            </p:stCondLst>
                            <p:childTnLst>
                              <p:par>
                                <p:cTn id="20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Think Bac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specific struggles would this activity potentially address for stud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uld be done to address the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the use of manipulatives add to your problem solving strategy? understanding? ability to connect re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4009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ish the work from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student struggles (errors, misconceptions, and partial understandings, etc) that are grounded in experience and/o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ize that different representations of relationships highlight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exit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out algebra tiles from BLM QR.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Notes From the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question that I might ask of my students to address that big idea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rite an equation of a quadratic that has a vertex in the third quadran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hat does x=5 mean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Given a graph/table/expression/algebra tile representation, which are quadratic?  How do you know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Notes From the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en I teach factoring, my students seem to struggle most wi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algebraic manipulation (selecting the numbers to generate the correct sum and produc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ng the algebraic to the concret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electing the appropriate metho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on to solving equations – zeros/roo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mpleting the squar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ultiplication fac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ig Ideas for Algebraic Reason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1643040"/>
            <a:ext cx="8715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gebraic reasoning is a process of describing and analyzing (e.g., predicting) generalized mathematical relationships and change using words and symb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paring mathematical relationships helps us see that there are classes of relationships and provides insight into each member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fferent representations of relationships (e.g., numeric, graphic, geometric, algebraic, verbal, concrete/pictorial) highlight different characteristics or behaviours, and can serve different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imited information about a mathematical relationship can sometimes, but not always, allow us to predict other information about that relationship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ig Ideas of Quadr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42680"/>
            <a:ext cx="82296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graphical, algebraic, numerical, geometric or verbal representation of a quadratic function reveals different information about the concrete/pictorial representation of the quadra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ation of the </a:t>
            </a:r>
            <a:r>
              <a:rPr b="0" lang="en-CA" sz="3200" spc="-1" strike="noStrike">
                <a:solidFill>
                  <a:srgbClr val="00b0f0"/>
                </a:solidFill>
                <a:latin typeface="Arial"/>
              </a:rPr>
              <a:t>graphica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representation allows understanding of the predictable affect of parameters on the function.  (something about transformations and combining fun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Connecting to the BI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4268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ell do the big ideas encompass the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d you think any of the expectations fit under more than 1 big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concepts develop over the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other characteristics did you notice about your clus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re anything that we can now add to /remove from our group Frayer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Less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714680"/>
            <a:ext cx="822960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Arial"/>
              </a:rPr>
              <a:t>Many people fail in life, not for lack of ability or brains or even courage but simply because they have never organized their energies around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Elbert Hubb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nk your lesson goal from last night and link it to a cluster of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et with other like-minded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lesson goal(s) on a large piece of paper and post near the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C Chilvers</cp:lastModifiedBy>
  <dcterms:modified xsi:type="dcterms:W3CDTF">2009-08-18T19:05:27Z</dcterms:modified>
  <cp:revision>166</cp:revision>
  <dc:subject/>
  <dc:title>Slide 1</dc:title>
</cp:coreProperties>
</file>